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5E93-5356-43A1-AAC0-3B71462EC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A49B-8A7D-4B86-AE01-99BD996B4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3CE8-F431-42F4-8924-28F6237EE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85D1-9788-4A50-AA1C-117EDFB3B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70D0-1CC4-4B63-9EF4-01686558A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AED1-72B9-4861-B847-2D2788993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C8D8-A713-4000-8CB6-DF10C035D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64AD-31A7-4912-8D4C-90FAFEA3B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5D2-E86E-4837-B093-CE326410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2DD-6797-4094-A609-FB996805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EE1-9463-433B-89D4-32453C1D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412-42EB-49DD-B5BC-8F4606A5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050-28E3-4115-BED0-B2D6D571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FE2-CD18-4886-A5D2-AD342668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16B-9FEE-462B-8395-76BD1BD1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A45-13F8-4ADC-A884-0F2AE31B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D35-A342-40B5-80BC-64A58F2D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2D6-C62A-4CE0-A3C1-66F189BC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4630-6BDF-443E-8C7B-8A190A86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46A-7CBA-4EAE-8D9C-A5F88E93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DB02-DD3A-4526-99AA-432C1EA98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 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taking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 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x and y ar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the y 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graph a line in slope intercept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ocation of the y intercept on the y ax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he point with a d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lope’s Rise (up or down depending on if the slope is positive or negativ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lope’s Run (move righ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he new point with a d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066680" y="1447920"/>
                <a:ext cx="27432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6"/>
          <p:cNvSpPr/>
          <p:nvPr/>
        </p:nvSpPr>
        <p:spPr>
          <a:xfrm>
            <a:off x="1066680" y="30481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3772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990720" y="1447920"/>
                <a:ext cx="22096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Text Box 6"/>
          <p:cNvSpPr/>
          <p:nvPr/>
        </p:nvSpPr>
        <p:spPr>
          <a:xfrm>
            <a:off x="1219320" y="327672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 –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3815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5800" y="1676520"/>
                <a:ext cx="26668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Text Box 6"/>
          <p:cNvSpPr/>
          <p:nvPr/>
        </p:nvSpPr>
        <p:spPr>
          <a:xfrm>
            <a:off x="762120" y="3124080"/>
            <a:ext cx="52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e fo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 – 4x +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4000680" cy="3619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609480" y="4648320"/>
            <a:ext cx="3124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33520" y="22096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x                             -4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-4x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609480" y="1371600"/>
                <a:ext cx="381024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533520" y="2590920"/>
            <a:ext cx="43434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for 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nus 3x from both sides then divide by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8"/>
              <p:cNvSpPr txBox="1"/>
              <p:nvPr/>
            </p:nvSpPr>
            <p:spPr>
              <a:xfrm>
                <a:off x="533520" y="3962520"/>
                <a:ext cx="4038480" cy="19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2" name="Picture 10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8480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23:41:21Z</dcterms:created>
  <dc:creator>Troy Clarke</dc:creator>
  <dc:description/>
  <dc:language>en-US</dc:language>
  <cp:lastModifiedBy>Floyd Stensrud</cp:lastModifiedBy>
  <dcterms:modified xsi:type="dcterms:W3CDTF">2009-11-19T13:54:37Z</dcterms:modified>
  <cp:revision>8</cp:revision>
  <dc:subject/>
  <dc:title>Slope Intercept Form</dc:title>
</cp:coreProperties>
</file>